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F60A-1387-4330-9D3D-EAB01CFAA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3C23-C9EC-44E3-B0EB-6E06687CF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6F43-7827-4C31-A0FF-0EF9D3F26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C610-7B5F-4D2C-96EA-B4F8B9F78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B437-D9E9-4FC9-B42E-BC334DBD2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13D8-4B95-4899-A41C-F0777F6B6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79BE-5244-42FA-ADB2-5500A6F8C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9EF3-BA78-4280-AE76-8FB2C3BD9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21FC-6BCD-4A3F-83AF-598A18A50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9E5A-BFC8-41CE-9F03-ED0E2D01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09A5-0934-4480-936C-3472CF724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4262-3FC0-431C-96CE-FB96B4B94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322C5-E5EC-4CB2-9F8B-526B21D95B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1.8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tiplying and Dividing Integ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14800" y="2297160"/>
            <a:ext cx="377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 1: Multiplying integ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with tile spac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7848720" cy="23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800100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The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8534520" cy="765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057400" y="2209680"/>
            <a:ext cx="5335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2133720"/>
            <a:ext cx="6094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77120" y="2133720"/>
            <a:ext cx="30456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381880" y="2209680"/>
            <a:ext cx="228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07732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229600" cy="16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7924680" cy="34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30T23:55:55Z</dcterms:created>
  <dc:creator>Graham</dc:creator>
  <dc:description/>
  <dc:language>en-US</dc:language>
  <cp:lastModifiedBy>Graham</cp:lastModifiedBy>
  <dcterms:modified xsi:type="dcterms:W3CDTF">2011-08-30T23:56:00Z</dcterms:modified>
  <cp:revision>1</cp:revision>
  <dc:subject/>
  <dc:title>Lesson 1.8 Multiplying and Dividing Integers</dc:title>
</cp:coreProperties>
</file>